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D10-700B-487B-BC48-EA9BA937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579-FACB-4F11-9CC2-F94CCE20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615-2E10-4282-8A11-BD44C572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70E-0D0A-4E9B-8F8F-5F199C09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6102-A2D6-4AD9-B9A5-1246A08B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B94C-C4F3-4752-A019-14E063D3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FE72-8A0B-4522-AB35-32D82656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2375-2B07-4F65-BD51-7777582F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C174-5378-4380-A954-3A8ACDDB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3ABA-778B-4ADD-9AB8-4B2E2F6A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C9BE-7B4E-4F3B-9CAF-CF1931D9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765-8482-4F07-A665-37FCE6F3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6D92-AF29-4C7E-AA36-B875B59D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2E5C-0CFD-4EAE-B771-C73F94E2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8FAD-2136-401C-8F2D-0C47DAF8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6E09-AFBF-4D76-A209-FA17A848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B846-71B6-4AC8-A77F-C8C63DF4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400-9CA3-4C6F-9F0F-F9517230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ED0-B5D1-4EA1-9319-36DB55CF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1E7-E92E-47A1-995B-0933755C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617-7E13-4033-9228-9C15F78B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878-8929-4F8D-941C-D6637211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E34-D1C8-47EE-8FBE-9CD91069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142-3F51-4745-A98D-47AC2029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C60A-3E43-410E-9440-B648BA053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24E4-65C2-4197-97D8-3DA626575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Exponent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Exponen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11840" y="3200400"/>
            <a:ext cx="412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 x 2 x 2 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3200400"/>
            <a:ext cx="64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2960" y="30481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9152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Exponen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3960" y="3352680"/>
            <a:ext cx="27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 x 3 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335268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30840" y="3276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3886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Exponen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8320" y="3352680"/>
            <a:ext cx="549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 x 5 x 5 x 5 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335268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3200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01000" y="3886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Base and the Exponen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8320" y="3124080"/>
            <a:ext cx="549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8 x 8 x 8 x 8 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312408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26120" y="30481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680" y="37339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1520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Base and the Exponen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8840" y="3048120"/>
            <a:ext cx="686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7 x 7 x 7 x 7 x 7 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3048120"/>
            <a:ext cx="64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3320" y="29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58200" y="3657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4114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Base and the Exponen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21320" y="2971800"/>
            <a:ext cx="27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9 x 9 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297180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30840" y="29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038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ow to Multiply Out an Exponent to Find the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tandard For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5360" y="2133720"/>
            <a:ext cx="549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 3 x 3 x 3 x 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213372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16880" y="3134520"/>
            <a:ext cx="500760" cy="525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34290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613040" y="3149640"/>
            <a:ext cx="463320" cy="558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42360" y="4141800"/>
            <a:ext cx="373680" cy="403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452920" y="3164760"/>
            <a:ext cx="1170000" cy="1452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4343400"/>
            <a:ext cx="119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70720" y="5140080"/>
            <a:ext cx="317160" cy="311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029280" y="3236040"/>
            <a:ext cx="1882800" cy="2303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7120" y="525780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81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11120" y="2057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Base and Exponent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 Standard For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00400" y="281952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9920" y="2743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26440" y="28954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3886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2819520"/>
            <a:ext cx="109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Base and Exponent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 Standard For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81952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9920" y="2743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6440" y="28954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3886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91320" y="2819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Base and Exponent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 Standard For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281952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39920" y="2743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6440" y="28954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62720" y="3886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2819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j0234686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1360440" cy="1451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64040" y="0"/>
            <a:ext cx="777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For Learning to Happen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743200"/>
            <a:ext cx="8053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ear your desk of anything that ma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tract yo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move all other thoughts from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y close atten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y all the exampl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gnore all other distract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Base and Exponent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 Standard For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281952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39920" y="2743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6440" y="28954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3886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2819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12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ponents Are Often Used in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rea Problems to Show the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eet Are Squar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2438280"/>
            <a:ext cx="655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Times New Roman"/>
              </a:rPr>
              <a:t>Length x width = are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pool is a rectang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ngth = 30 f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dth = 15 f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rea = 30 x 15 = 450 ft.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11720" y="51814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2209680"/>
            <a:ext cx="1447920" cy="2819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2590920"/>
            <a:ext cx="11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f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15200" y="38098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0f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91520" y="2209680"/>
            <a:ext cx="0" cy="2743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320040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ponents Are Often Used in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Volume Problems to Show the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entimeters Are Cub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2076480"/>
            <a:ext cx="784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Length x width x height = volu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box is a rect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= 10 c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dth = 10 c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ght = 20 c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 x 10 x 10 = 2,000 c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773840" y="5867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81680" y="3048120"/>
            <a:ext cx="1366920" cy="25146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772400" y="441972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510552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0280" y="34290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154360" y="38862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21000" y="4724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1360" y="35053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ere Are Some Areas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hange Them to Expon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2076480"/>
            <a:ext cx="7848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40 feet squared = 40 ft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56 sq. inches = 56 in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38 m. squared = 38 m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56 sq. cm. = 56 cm.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97520" y="2057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40320" y="28954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29400" y="3654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83120" y="4495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ere Are Some Volumes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hange Them to Expon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95280" y="2076480"/>
            <a:ext cx="7848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30 feet cubed = 30 ft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26 cu. inches = 26 in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44 m. cubed = 44 m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56 cu. cm. = 56 cm.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64360" y="1981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40320" y="28954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35760" y="3733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83120" y="4495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ocation of Exponen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nent is a little number high and to the right of a regular or base numb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50120" y="40384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1160" y="403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4952880"/>
            <a:ext cx="9144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943240" y="4419720"/>
            <a:ext cx="6858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43000" y="44928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42520" y="4035600"/>
            <a:ext cx="21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Definition of Exponen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nent tells how many times a number is multiplied by itself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50120" y="40384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1160" y="403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4952880"/>
            <a:ext cx="9144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943240" y="4419720"/>
            <a:ext cx="6858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3000" y="44928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42520" y="4035600"/>
            <a:ext cx="21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an Exponent Repres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nent tells how many times a number is multiplied by itsel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1280" y="41911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7080" y="3962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3280" y="4114800"/>
            <a:ext cx="609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 3 x 3 x 3 x 3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ow to read an Exponen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exponent is read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ree to the fourth pow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50120" y="40384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1160" y="403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4952880"/>
            <a:ext cx="9144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943240" y="4419720"/>
            <a:ext cx="6858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43000" y="44928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2520" y="4035600"/>
            <a:ext cx="21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ow to read an Exponen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exponent is read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ree to the 2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power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three squar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50120" y="40384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11160" y="403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952880"/>
            <a:ext cx="9144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943240" y="4419720"/>
            <a:ext cx="6858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43000" y="44928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2520" y="4035600"/>
            <a:ext cx="21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ow to read an Exponen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exponent is read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ree to the 3rd power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three cub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50120" y="40384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1160" y="403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4952880"/>
            <a:ext cx="9144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943240" y="4419720"/>
            <a:ext cx="6858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43000" y="44928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42520" y="4035600"/>
            <a:ext cx="21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ead These Expon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6920" y="32004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320040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920" y="32767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6120" y="32767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51040" y="407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4280" y="3352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0800" y="3352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3280" y="3352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9800" y="3352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6T04:44:18Z</dcterms:created>
  <dc:creator>Monica/Bob Yuskaitis</dc:creator>
  <dc:description/>
  <dc:language>en-US</dc:language>
  <cp:lastModifiedBy>Monica/Bob Yuskaitis</cp:lastModifiedBy>
  <dcterms:modified xsi:type="dcterms:W3CDTF">2000-02-06T14:52:11Z</dcterms:modified>
  <cp:revision>9</cp:revision>
  <dc:subject/>
  <dc:title>Exponents</dc:title>
</cp:coreProperties>
</file>